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C79D-614B-4E8E-B92A-966DD78C0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E32F-8512-405C-BFA4-5BF5685F8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52F3-D25B-4E58-ADD0-5653EA7CF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AA5A-D375-4162-932B-33ECAA73F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D57C-B4A6-4195-A340-3EE77B986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3625-1044-46FD-953E-8D67DE687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FE35-5473-4CDE-A1F1-A712F215E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2D44-C099-4628-B82D-3E85F83B5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AF3C-556F-42D4-A4C9-9E2C5EA3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5FD4-136B-4077-8D2F-DE16553E2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1B06-7738-4C42-93CA-036C0D93A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824F-216A-4173-BE36-C853D9F76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5 Generation  PG65 BA, P. Baer   03-09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F0DD32-2D63-42CE-8294-30FAD2F517A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close the GAP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7080" y="1676520"/>
          <a:ext cx="6959520" cy="4297320"/>
        </p:xfrm>
        <a:graphic>
          <a:graphicData uri="http://schemas.openxmlformats.org/drawingml/2006/table">
            <a:tbl>
              <a:tblPr/>
              <a:tblGrid>
                <a:gridCol w="1258920"/>
                <a:gridCol w="938160"/>
                <a:gridCol w="939600"/>
                <a:gridCol w="965520"/>
                <a:gridCol w="965160"/>
                <a:gridCol w="990360"/>
                <a:gridCol w="90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p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y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C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3080" y="111456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levers per product and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05520" y="614376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igh       o mid       -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75760" y="1143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8480" y="11764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14637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6440" y="2355840"/>
            <a:ext cx="1717560" cy="307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26440" y="28749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vers to impr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26440" y="361008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rge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65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26440" y="43401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5541840"/>
            <a:ext cx="1103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se 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79600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endant on sale cj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582444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€ already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E18C-D50E-460F-AE37-7A07056B2905}" type="slidenum">
              <a:t>1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H Fink</dc:creator>
  <dc:description/>
  <dc:language>en-US</dc:language>
  <cp:lastModifiedBy>Siemens-Mitarbeiter</cp:lastModifiedBy>
  <cp:lastPrinted>2002-03-20T19:03:58Z</cp:lastPrinted>
  <dcterms:modified xsi:type="dcterms:W3CDTF">2003-09-25T15:50:16Z</dcterms:modified>
  <cp:revision>502</cp:revision>
  <dc:subject/>
  <dc:title>L55 Barracuda M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stefanie.kraemer@siemens.com</vt:lpwstr>
  </property>
  <property fmtid="{D5CDD505-2E9C-101B-9397-08002B2CF9AE}" pid="3" name="_AuthorEmailDisplayName">
    <vt:lpwstr>Kraemer Stefanie ICM MP UC CS</vt:lpwstr>
  </property>
  <property fmtid="{D5CDD505-2E9C-101B-9397-08002B2CF9AE}" pid="4" name="_EmailEntryID">
    <vt:lpwstr>000000006BFB1AC7D769D4118E4C00508B656DE207002D8F24094DEFD3118E4800508B656DE20000001DB66F00002C596574BA874846A35C843BA87906D7000000FC8BEC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0657465722E4261657200</vt:lpwstr>
  </property>
  <property fmtid="{D5CDD505-2E9C-101B-9397-08002B2CF9AE}" pid="6" name="_EmailSubject">
    <vt:lpwstr>Bitte überarbeiten Sie 'product targets_180903'</vt:lpwstr>
  </property>
  <property fmtid="{D5CDD505-2E9C-101B-9397-08002B2CF9AE}" pid="7" name="_ReviewCycleID">
    <vt:r8>-806922927</vt:r8>
  </property>
  <property fmtid="{D5CDD505-2E9C-101B-9397-08002B2CF9AE}" pid="8" name="_ReviewingToolsShownOnce">
    <vt:lpwstr/>
  </property>
</Properties>
</file>